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D9A-2925-441A-BE23-4D6A49E6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to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rtist portray the contrast between East (civilization) and the West (the frontier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isual elements signify “wilderness”?  Which signify “civilization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 the Native Americans play in this im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ettlers bringing wit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0146-3B82-4CA9-BA02-E31F34CA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6CF4-1494-4EA3-865E-26D8FA0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80CA-D48B-4E39-96B4-EB528855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D931-724A-44BB-AB7C-B11A9192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4A24-A081-48B3-A9B2-E9B56CAF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5858-7A54-4A0F-B95D-CA6168C6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2537-4BD0-4E1C-8E73-C5140A2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A4AB-5B9A-46BC-9383-D81304C3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D453-178C-4834-8DFA-443B3CB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3896-A18F-4DFD-AA52-64885230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6BFF-81C5-45DC-92C5-D1E5736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8D0E-B8BB-4C16-A878-51E44CB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3847-94C6-4347-A219-E3716B7F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713-EC4F-42A0-93F0-DA120B2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0DE-C46E-4CB4-A85E-05AA709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E44-5102-4B2D-BE73-A83A4FA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4EC-24D6-4674-9C14-2703E110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ED48-24EC-4448-80F4-D8B253EA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7738-7BBC-44C7-BD27-BF9DDA8A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7D2A-2635-496A-9E27-1D3C87C6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D415-FCCE-4524-93B0-5B6269F0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A663-627F-4ED5-966E-EF31EA2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57F7-357F-452D-A5E6-0B07192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3DD5-3B49-40D0-ACC0-CCEA1FB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114E-AB6D-42A7-A5DB-1DC95F9E7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88B-C31D-40F2-863C-69D9ACE12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t Examples of Manifest Desti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Questions to ask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ow does the artist portray the contrast between East (civilization) and the West (the frontier)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visual elements signify “wilderness”?  Which signify “civilization”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role do the Native Americans play in this imag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32987" t="31591" r="9376" b="862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rcRect l="0" t="46430" r="46494" b="0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rcRect l="41026" t="41667" r="0" b="0"/>
          <a:stretch/>
        </p:blipFill>
        <p:spPr>
          <a:xfrm>
            <a:off x="0" y="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http://tigger.uic.edu/~pbhales/fasi/thumbnail%20palmer%20c&amp;i%20across%20the%20continent%20westward%20the%20course%201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324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Across the Continent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by Francis Palmer (1868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4169" t="41394" r="41492" b="1565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4169" t="7817" r="9376" b="156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merican Progres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y John Gast (187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2:20:05Z</dcterms:created>
  <dc:creator>Brent J. Freccia</dc:creator>
  <dc:description/>
  <dc:language>en-US</dc:language>
  <cp:lastModifiedBy>Christina School District</cp:lastModifiedBy>
  <dcterms:modified xsi:type="dcterms:W3CDTF">2009-10-01T15:44:11Z</dcterms:modified>
  <cp:revision>3</cp:revision>
  <dc:subject/>
  <dc:title>PowerPoint Presentation</dc:title>
</cp:coreProperties>
</file>